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980-EF4F-45B5-B97C-0F43ADCE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D23-A8D8-4BBA-902A-2BAAB1B7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4EB61-0016-426D-A0F5-5AE20567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4A4C2-5D03-411A-8374-2C4B684D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51B2B-CE15-4E01-9220-F7C42837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8D7E-7A11-4443-94E3-021E6BC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8F1C2-773E-40D7-B313-D36839B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13408-3401-4875-980B-8F3BC53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C411E-6AD5-4D73-9476-E2C30B6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9D897-B8D2-4055-A3C5-A42BABC0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15D8-5453-450A-B2D4-6C6EA396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15C73-A3AF-4CBB-8540-35837CBB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D27-7094-4B0C-B7CF-9DCC75B2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5A5F7-0114-4523-9087-1ED1947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F9E61-EB6B-4D4D-A6D9-044C9352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54ECA-52BB-40A7-A630-F2EC6CC5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7E4F7-4A24-4088-9416-F7C6842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2E1B8-551C-4CCB-8E4F-C60C3D3A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B367D-846C-4478-A7DF-2DC63F24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DD994-B490-4E5D-B407-AA5E5FE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54AD8-D889-4460-8561-53D385A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7F47E-AD6B-4CDA-8E34-248DC790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59985-D5D5-462B-9DE5-BF4AC0D1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599-E2F5-4176-9E6E-F2077162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7ED1C-2BF3-4DAA-805D-5AF1857C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DA93-AF23-420F-95C5-4CD75072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C4176-52BE-4977-9325-3F6BC177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5EABB-A453-48BA-B474-F3E3F9B3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2F5B6-068C-4D19-80C1-A9B9A140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D3B19-6912-44A9-B915-C6FC681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627D-DE1A-43EB-A005-75707CD1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ACB56-6201-44BC-838F-9D7B1F83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987FD-7BDB-4A77-9926-B892086B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8AA8-59D8-49EE-8217-E1FD582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105E-FC33-45D6-80AE-28F12B18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AE41-511F-462C-AB03-D7B8837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CB2FD-6850-41B1-9B45-435EDFDB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8C08F-EB22-4A97-BD2F-D045DF98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28DC2-BE7C-4F2F-B9E1-8F658239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01615-5550-4ACF-8DF5-0BD37F07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D335F-0527-49D3-AC4D-2F70DD11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E04AA-C269-4303-8E5B-14817951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31924-4535-4756-B3CE-CFBF88D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F72EE-86B5-4E82-90E2-0A70925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2C479-F65B-4771-9A34-23279C09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E530-1D58-4AA5-96B8-952F9AE3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C2751-BB50-41A1-8D1C-D06C4784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9E0DA-7C9E-40B5-9269-97A08C5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D0128-3D02-4859-A336-8E715B06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23946-6A2B-41FD-9AC1-9D7134FA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DE383-6FFF-4E16-9611-935378D5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8815A-0170-4E32-A4F4-55147438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148CC-0D6C-4FA8-A75D-995F6903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F3C70-9BE0-4836-A0BE-33962BB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37238-F187-47AF-B01F-1D84D5D1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EC7D1-D6F3-414C-8F26-F1F66814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963-EA16-4A68-A885-3C67211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500F3-0461-476E-B686-CCE1F62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5ECAC-8172-4585-AE83-1361D16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6DC4D-66B1-43CC-A2E4-DB8C835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50326-4746-4116-8753-E6D736C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6BA58-6D8A-4690-84F7-F1F1B668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FF11C-6B7B-416A-A7D9-A63528E7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6C9F9-3088-4890-BD8A-2BE25678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98E76-FCA7-498D-A9CB-96592615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DA264-765A-49EB-B3D4-E81360A5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2EF38-EA20-4DEA-8A8F-3D180416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E66A-7510-4C52-818B-7ADF55CB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88EAE-AB7A-4351-A447-3CEF35A4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54655-F90B-4983-AB61-E70F8E6A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7A194-FF39-4E9D-A952-CF8C410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96330-1908-4235-AC35-1BF4579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DA87F-9CA4-447C-95A1-EFFBC6D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748BB-5FDA-4B77-A094-6D4C15A9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ADA34-6C61-4124-B570-5803AB58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3472A-26BF-40F6-8701-49B660F7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09AC6-1FB2-4693-B2A7-18519963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C51E4-8D2D-45E6-9995-21F3C463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E699-221E-4DD2-9196-890617D8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66EBD-5B62-4520-8796-CB677930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64552-AE77-4743-8585-A9945B3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ECECA-6B54-4073-861B-9D99E9C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13E87-0850-42C1-916A-3CD994F4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34DB6-8360-4E8E-83F4-6DD92BF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C2D9D-7310-4100-9559-38ECF764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52488-FBA8-411C-BE01-B1FF3E0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86B12-75AC-4E2E-9856-EAD2E7E1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AF76C-E044-4A45-8096-2A71AE7B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002E6-3B47-443E-B8D9-2D770A32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93CC-D15A-4398-9759-489B0A40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C1B3E-9A81-406D-85D5-8ACBD997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7F6F2-9038-4B2A-BF7C-A513A473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8B713-0AC3-418C-AFA2-6ED512D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824A7D-AE89-4D43-A647-BECE2FB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BF3DA-8AC2-4F5F-9FCB-050D6113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26B5B-5A96-49FB-82C7-5D9262B2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04CCB-785A-4BFA-86FD-83BB973C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85647-6516-4FEB-AD8D-7915007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0972A-934D-41EB-B3C0-6307BFE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76B25-A95D-4D69-8BFA-8F366F1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27A7-CE46-460B-8FD8-007CE13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9EFF3-946B-47B2-87C9-6322566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EBD0A-EB91-44B3-8FE5-76F4A8E7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3C1E3-DA4C-4F8D-9F29-7713843D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FB192-EDB6-4FF3-AFCF-C44F99C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00BA0-6588-47D1-8B33-87CDB122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C3BFB-7145-4630-BA5E-DE1EDA8B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3B854-633A-4F32-98E8-4B5D650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1449B-7ADF-492F-8ED9-FEE4EAC2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2367A-0D93-4D4E-B3F9-88CD4EDF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B1C8B-8D84-4FE7-845C-9A95E4AE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084-866F-437B-8306-9EFD2738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5167-5EDB-42D0-8DAC-3A6BAFC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4B36C-93D8-430A-A869-95CF506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3A109-C7E9-4401-BD5B-FF9B591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376420-5A2C-4A4A-BDFA-90767C2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C9789-149C-4523-877D-C2486291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D29C1-6F6B-4A63-AC74-C9241D0A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61DA4-F346-4FDD-BCF5-33BD5226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7D63D-B73B-450E-BCE6-2038281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9C9FA-C22A-4282-AE7E-4C8FBCFD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DD52E-FBFB-4B02-8520-D300B74A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E73DD-9C35-42C4-8EDE-4F5C130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9C96-E5CE-452A-AAC1-D80F752D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272D2-79A3-4EB8-94DD-788D6F26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D44AC-4E60-4124-A17A-FEB5FC2E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E380A1-9669-46C3-8200-3820BA4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C472B-F6E6-420D-95FB-767973B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1592C0-BE01-420B-B797-EC3E161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737E7-D9AF-42DA-B850-C6EB2FA4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5927B-5F1A-4248-85D8-8BB74FD4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082B1-7DE9-4AB3-B45E-1F314336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6E3FA-E09A-45F6-82AF-82D3D08F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56C7C7-54AF-404F-98E4-FDD60A7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698E-EC62-42EA-8D1E-54C7317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65271-B648-4CDC-81B9-623CB71B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D2601-7139-46DF-83F8-7480312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050FE8-5679-4315-986C-53DF6BE0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5A195-B719-4368-8B1A-BA06321E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BA8840-B6FE-4A0B-B821-FF15A90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95653-8F36-4CE2-8F63-73DF3D1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55979E-9987-4EB5-8595-CF351F47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DD49BB-F9A1-43F2-B3D6-1C2DFB91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47916-0837-4BA8-8D87-00347052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C64B7-7609-49BB-BA15-1C9433FB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B50-3063-49D9-A7F9-CE240CB1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22750-91F6-44B8-B193-32821EA9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BE1CEC-A5DD-4BC1-9253-DE00AD1D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9F9E0-D781-40AE-877E-436A2114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FC211-4C42-44A6-8561-6AB6F398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D97B1-4D2F-4BBF-81A2-F18F8B22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0E657-9ECB-4A5C-9CE6-91663D94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1894ED-B48D-428D-A551-F1E9940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1C58D-2616-46E1-B8F0-4E239B8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D55AF-634C-4254-AFF6-01C9D142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02C37-8732-4239-9344-B9CA003D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2F67-CC4C-4678-9A2A-47B53AD8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5873D-DD94-4ABB-B070-176832E9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619E0-027E-4042-9EDA-DE55A6C5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A3E42-EE9F-4EF1-9B76-F9165F32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2F3BA2-8576-41FA-A3AC-FE8E7D8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D2837-4926-4A10-85F2-DB2DF0CE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BD6644-9D4C-4A11-B0B0-4901F35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BCA68-2D2F-4AEF-841A-B5706DB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DA913-4C73-4AFE-8D04-2FDCFCCB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3CF5FE-A939-4815-9350-19DEA22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6011D-0E8E-42F6-8323-88C0AD4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3916-6748-43D9-AA2C-F887545F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EEC50-3FC4-4B5C-9F47-2A65A1CE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C1EC8-08B6-4727-BD53-B206ACF3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1205F-7FCB-462E-8D83-6BD4B52B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192E2-4429-4121-893A-EA1B62AB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D5F2-E7F5-45E5-B987-13494C0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21A0C-3086-473A-BFFD-139AE06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4D42-3043-4340-AF50-C166F098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930-3C54-4A2C-A83B-B99EA9F4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1E84-3200-43DD-AB65-E4B0329D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CCAD-88F6-4919-9EED-7398B0C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711B-250C-43E2-8DAC-3903943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82CB-F753-4C78-AC78-301C2454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1514-7161-45CD-A53F-838B1F6D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EFD43-5BDD-4FB2-8566-AC8F4C03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BE17-EE27-4B9C-A3DD-7211F0DD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251A-894F-472C-A60E-6080A891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A772-9F55-4F3A-AD5F-569FEDF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EEF0-7E11-4567-AD88-628D9567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2CB-B36A-44E5-B2D6-967620C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F3E8-9DB2-4563-84C9-B9506265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CEA5-299C-47CB-8324-08EDBC71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8965-F7EB-4E52-9960-7ACC9196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9B0B-778F-4C36-A475-5E8419D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69F9-051F-471E-A8E3-9A196495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1936-CD8F-47E6-9AB9-8893C75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F67A-B62A-4AA8-8F91-911CB104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1BB96-938A-483A-8F46-410B1238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61A2-8566-4478-B891-26E5D1A5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495A7-C973-4C31-8DE8-4CFAE143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EDC-329E-45C9-8015-0C64957E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7EB53-811F-4429-969A-9D90EE36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AD2F7-DA9B-4B36-B666-1C39468E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3BAA-051F-4266-914E-DFAD851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83D6-D9D0-4B5E-8A57-A60675BB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EAD29-AD13-4A1C-95B6-64F8350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4FCC3-587A-425F-AF70-34E2D59D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96ED-9CAD-44B1-96BD-F7842C63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9C8B-EEC6-4121-B527-93D1D9E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095A-C52A-49D7-AB8C-DDE6059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3E009-461A-461E-B0EE-1CB5D71A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D1A-CC5D-445D-BA62-130BDCA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8FE1F-88B7-4D6F-AFF6-42DB2F9B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9600-4341-40EC-A457-FBE8A601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A674-6010-4EF0-B56D-CCBCB90F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3FE8-5ED4-4B2F-96D1-E4D0E736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46E74-8260-43A3-BD0F-6695B0A1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0702-9A32-4247-BB6E-E698C345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3F49-5969-4E3C-BD73-E9953CEF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58A3-0FED-4696-B937-6407F6E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82E7-D2D7-4F36-9A07-CA84509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FB701-F4B0-494A-905B-F5D8712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9B5-AAC1-4D79-9C3D-0A5E668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EE0DA-B513-4869-ACD5-5E36A7A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0B455-DF4C-493D-8133-3EE67C83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70C7-2828-45BC-9404-EF5BB196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439B-04FB-4116-8FAF-7AEE5FBE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2392-5AB5-4A3E-B792-53055365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27B9-C793-4D8C-B227-A4A0282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5741-422D-4F28-8867-52AF8BF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FB5A1-060E-4416-94B1-24524D2A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11BF8-18BB-4F7F-B3B1-9ED362CA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D7C6C-149F-4810-A746-A58771B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AA6-FB12-4DAF-BC6C-2C635108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2E86-01EC-4F8B-9135-00F293A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0E663-E2D5-4D2C-A49E-74067A3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F2B7-A397-4059-A292-8E10368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D288-7FF1-4B59-951C-A9E7800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1C58-E0BB-4B0A-89AD-BFBADF6A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AC319-9595-49D9-98CF-01FD9373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AC9E9-C1C5-4B3B-A998-2F137A41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75265-BAF3-4B48-AE01-E20D872A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6C46-FDB8-4F23-B460-79D58572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BFF09-1E9D-4E0C-9677-48546A7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E4F-A4D6-496C-87DA-98E1729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F7D2-1E81-41AC-899E-73A1972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F15A7-A74C-4921-AB7E-CC71F3B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23361-110A-4486-8696-F0442C2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1E95C-0007-452D-BE29-FF60636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39BF6-6299-4FA6-8435-985E016E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8DB4-36C7-4137-8FA6-F8FB7CD4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BAB00-D0E1-4408-93EC-CBC41F70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70ADC-6DAC-433C-A8DE-841F51C4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AC549-2188-49EA-A7EB-5466298E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648EA-9ACE-4CC5-A9C1-EBA72AB5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CB9-0BA8-4C0B-8225-447788AF5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ACC9-0B81-486F-AE9E-1F4B142E1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8E22-A6AF-4C87-9F34-5D0B0C2F55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7CE5-309D-4425-A1B9-E45EE1E9F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DB57-1E63-4532-93FF-0D4CF3963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E2B2-5FCC-44A7-906A-5837DBB73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5C4F-DF40-4DF5-B5EF-459A492EE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8648-FEF0-4E1C-A5C8-943C8E4AB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D38-AC32-4175-BFC7-60F75E804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C34-9665-4F3A-83C5-8816F5052D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0859-A91B-4E64-8618-B7A9096F9D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D2C8-5EB3-463E-84F8-E388E54E7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C1F5-0553-40C4-93AC-6FD95C479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0177-BD5B-4278-8FF3-8D0376084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D6EE-1925-455F-B15A-73AB9768A0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19DA-9503-4D10-AE7F-411263A1D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0FFC-DFA6-4EBF-9019-1C9F0D20D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8E64-B821-4C0F-9A45-A12079FEF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FB79-023D-4F4F-B1CC-AD5DA335B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A53-DECE-4C5D-9F0E-A589007BAF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28B3-1724-4899-9DFE-E3881B3F8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3F4-42D1-41F1-8954-EE40526001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987D-A689-4A8A-B690-A303FA2FE0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08D-BD01-434D-8FD9-20167587F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1EBA-670D-4C61-95F0-9F95F3D8C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077A-E660-4017-82D1-35D63C52FC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9D0-F2B1-4487-9031-69F0FB619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5B1-B079-49E0-A277-182012868E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C70E-4998-4B9D-931D-5D1CC4D310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51B0-4C25-4A86-A311-6763BB7E85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7E53-E45F-4C39-AF27-7D3DEE7329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FB16-3260-454D-9ECB-9C16BD8012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9FAA-5DF9-4EBE-9B8B-946754ED51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C7FE-4B13-4193-831B-A92F38E61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37A6-DEFE-4F23-BD18-60DAB6FB1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1C00-5330-4115-871C-179D9E19F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5B6-60B2-47F3-97F1-8AFDE8A71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BD7-E239-4A2C-B62D-6660447B2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EB2A-1960-4146-86B5-C19670C4C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D1B-7356-49D8-95C9-73A69AA2D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43120" y="3186000"/>
            <a:ext cx="38577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441936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60429" descr=""/>
          <p:cNvPicPr/>
          <p:nvPr/>
        </p:nvPicPr>
        <p:blipFill>
          <a:blip r:embed="rId2"/>
          <a:stretch/>
        </p:blipFill>
        <p:spPr>
          <a:xfrm>
            <a:off x="5392800" y="4753080"/>
            <a:ext cx="1628640" cy="380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05080" y="2809800"/>
            <a:ext cx="719928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142920" y="1866960"/>
            <a:ext cx="8858160" cy="3124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2397240" y="22334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3635280" y="22478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4859280" y="22334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6156360" y="227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7351560" y="227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2411280" y="26798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8"/>
          <a:stretch/>
        </p:blipFill>
        <p:spPr>
          <a:xfrm>
            <a:off x="3649680" y="26938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9"/>
          <a:stretch/>
        </p:blipFill>
        <p:spPr>
          <a:xfrm>
            <a:off x="4873680" y="2679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0"/>
          <a:stretch/>
        </p:blipFill>
        <p:spPr>
          <a:xfrm>
            <a:off x="6170760" y="27226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1"/>
          <a:stretch/>
        </p:blipFill>
        <p:spPr>
          <a:xfrm>
            <a:off x="7365960" y="2722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2"/>
          <a:stretch/>
        </p:blipFill>
        <p:spPr>
          <a:xfrm>
            <a:off x="395280" y="3659040"/>
            <a:ext cx="244800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3"/>
          <a:stretch/>
        </p:blipFill>
        <p:spPr>
          <a:xfrm>
            <a:off x="395280" y="400536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4"/>
          <a:stretch/>
        </p:blipFill>
        <p:spPr>
          <a:xfrm>
            <a:off x="324000" y="4336920"/>
            <a:ext cx="68403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257040" y="1166760"/>
            <a:ext cx="8629920" cy="4524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352764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971640" y="3745080"/>
            <a:ext cx="352728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55640" y="4653000"/>
            <a:ext cx="3960720" cy="318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84360" y="4941720"/>
            <a:ext cx="3960720" cy="3193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684360" y="5243400"/>
            <a:ext cx="583236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8317080" y="25797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8345520" y="299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8302680" y="3357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8331120" y="37749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831708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8345520" y="4567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8317080" y="4869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4"/>
          <a:stretch/>
        </p:blipFill>
        <p:spPr>
          <a:xfrm>
            <a:off x="8345520" y="5286240"/>
            <a:ext cx="3589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7:2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